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788265"/>
        <c:axId val="35554124"/>
      </c:barChart>
      <c:catAx>
        <c:axId val="157882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54124"/>
        <c:crosses val="autoZero"/>
        <c:auto val="1"/>
        <c:lblAlgn val="ctr"/>
        <c:lblOffset val="100"/>
        <c:noMultiLvlLbl val="0"/>
      </c:catAx>
      <c:valAx>
        <c:axId val="35554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882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9E6-E29A-46AC-98D9-94C23775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6E75-7D6E-40D8-AFB1-CD5DA380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0F0-0008-4BE0-8865-63072A54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1EA2-4F4B-45F6-8965-45C92584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DA54-EA2F-4287-9C6B-17B636BC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15AE-C4DB-4424-A0FB-542C5B52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74F2-C28D-40BD-8138-2D9CE11D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D01F-0791-4317-9537-491D8B4A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8ABC-C0B2-47A6-A317-D3BE6517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CDC1-EC8F-44C0-A3B9-07E03C03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34BE-D479-4C5C-AADA-E16218F7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F835-128F-4D1E-8CA6-00068474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5FDDC-7969-4C2E-A25B-4C0E857451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