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69675"/>
        <c:axId val="75741394"/>
      </c:barChart>
      <c:catAx>
        <c:axId val="76769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41394"/>
        <c:crosses val="autoZero"/>
        <c:auto val="1"/>
        <c:lblAlgn val="ctr"/>
        <c:lblOffset val="100"/>
        <c:noMultiLvlLbl val="0"/>
      </c:catAx>
      <c:valAx>
        <c:axId val="75741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69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CBC-C90A-4848-A871-07359A7D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408-8070-48C2-9A19-122DE107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1CD-4BDF-43E8-9C97-6BE7F0DC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CCE-52EF-4C50-996A-F2EE2BC5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886-5E98-453A-AA2C-7449E4DC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A2B-E086-48D1-8CBA-453F200C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BD5-4A21-4979-B871-66E96937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6BB-C735-4D9C-B954-125448E0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7CD-5884-4745-9CFB-857C01A2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D74-9B04-48F0-A695-C43A4BA5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1C7-A95B-46D2-92CC-BE3F41F4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5BB-7E89-42A7-9840-92B45B5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3DE6E-AF1C-4695-99CF-C410151AB0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