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90458"/>
        <c:axId val="15881614"/>
      </c:barChart>
      <c:catAx>
        <c:axId val="68390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1614"/>
        <c:crosses val="autoZero"/>
        <c:auto val="1"/>
        <c:lblAlgn val="ctr"/>
        <c:lblOffset val="100"/>
        <c:noMultiLvlLbl val="0"/>
      </c:catAx>
      <c:valAx>
        <c:axId val="15881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90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0AF-443F-4FFF-8255-7B5711A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E3F-DB97-45C1-BB90-C53F32DD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30E-2C4B-4308-BD2C-0F482CF8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944-109B-4244-80A8-BD7FA2A2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EC3-33C4-4B21-A80A-5E7FD52C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0A4-AA04-45FD-8365-C01D2C8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CF7-1D03-4EA8-B297-22783FC7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DF2-85C6-4192-AE3A-159FFD6C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126-AAD8-44B6-834C-9760875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E30-CFFB-405F-A803-812C529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282-088B-4D79-816C-67FCA42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C1C-8D21-47BC-A4EB-70CF845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CC776-E78F-4B52-B906-BEBDB7BA0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