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42887"/>
        <c:axId val="21677215"/>
      </c:barChart>
      <c:catAx>
        <c:axId val="54342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77215"/>
        <c:crosses val="autoZero"/>
        <c:auto val="1"/>
        <c:lblAlgn val="ctr"/>
        <c:lblOffset val="100"/>
        <c:noMultiLvlLbl val="0"/>
      </c:catAx>
      <c:valAx>
        <c:axId val="21677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42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0F5-AE25-4C5A-ACD8-D76FDE67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C4C-3A5F-4CC6-9F75-C9114E60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1EE-07BB-496E-B6A2-4303574D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6AB-2213-4731-A234-F814E00E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F88-C8F8-4894-AA9C-9A539C4C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4A0-9A13-4A6A-B364-71E7CB24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DC5-E432-441F-92F2-EE82EF8A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463-E1D2-483F-9C7F-D1C47D31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D89-6D8A-4ED1-9D75-87BF9E15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EF4-B21F-4C57-B439-F6814E84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1BC-1376-4106-BA95-21761E6F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D2E-F503-48B2-B002-91551128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8AD1E-C503-4DCB-9929-D9880AE1C6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