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00291"/>
        <c:axId val="88662343"/>
      </c:barChart>
      <c:catAx>
        <c:axId val="44200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62343"/>
        <c:crosses val="autoZero"/>
        <c:auto val="1"/>
        <c:lblAlgn val="ctr"/>
        <c:lblOffset val="100"/>
        <c:noMultiLvlLbl val="0"/>
      </c:catAx>
      <c:valAx>
        <c:axId val="88662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00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16A-A024-4971-99C9-32A2832C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C6D-7B41-47AD-8059-0F2B0433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BFF-E9B4-4CC4-8E87-A9630A6F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26ED-BC1D-4A13-A669-03029128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D95-21A2-43E6-A354-B911B7AE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C84F-E6BE-4D36-88B5-7468C629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3151-127D-48A8-87FB-B15F2C08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DEB-1A3C-464C-9C71-991576A9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D57B-3AFB-4380-B40F-CF1B5294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CBDF-8259-476F-BDC9-2A09E6A9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071F-6474-4F46-BD2E-59AE5805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6F2E-DBBA-4FA1-BCFF-FA3EB312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AE75E-9A93-44CB-A0B0-B63085FF31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