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27322"/>
        <c:axId val="6468292"/>
      </c:barChart>
      <c:catAx>
        <c:axId val="59027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8292"/>
        <c:crosses val="autoZero"/>
        <c:auto val="1"/>
        <c:lblAlgn val="ctr"/>
        <c:lblOffset val="100"/>
        <c:noMultiLvlLbl val="0"/>
      </c:catAx>
      <c:valAx>
        <c:axId val="6468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27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DAA-D37D-49F5-8CBB-31E50BDA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F13-1A9C-499F-84C8-4E7372DB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BDB-BB53-4302-974A-FFC7E399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EA4-AD01-4A6A-92F5-5E200AE9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CA9-DE5F-455D-B652-23F8AC4F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24B-AC74-4263-B32D-4830648D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09C-829B-4FD5-909B-26CEEEB2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B94-02E9-44BE-9975-88522EC7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D71-8CF5-4918-9A8A-CEC084D0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6C1-6BE8-4599-819F-F446B27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E995-BADE-4914-A413-51040A0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8C8-1148-44BF-B7DE-64F368F9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FE8ED-7723-4FA9-8379-D0C171B636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