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16031"/>
        <c:axId val="70448761"/>
      </c:barChart>
      <c:catAx>
        <c:axId val="59116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48761"/>
        <c:crosses val="autoZero"/>
        <c:auto val="1"/>
        <c:lblAlgn val="ctr"/>
        <c:lblOffset val="100"/>
        <c:noMultiLvlLbl val="0"/>
      </c:catAx>
      <c:valAx>
        <c:axId val="70448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16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7C1-BBCC-4609-8640-CD9E7604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AA3-5055-4332-AD6D-AF91B629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56A9-E8CB-467D-B19F-BBC641A3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EFB-1DEF-43FA-922C-68D89E43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ABA-508E-4112-8F7D-1BC55B88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6BE-A50B-42AF-A4A6-150EE5F4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FA9-7EBD-42B1-BAAE-4713EE59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2D5-BE20-4B7F-B15C-E29A0C8C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D18-02B1-43E7-8AE2-C24F7E0C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8A1-C697-4C4E-83DD-D14DEC6D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1BF-8B9C-40B0-B8E1-7632B8AF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2AD-F624-4883-8020-CE6ED043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DF0CC-FC90-4203-87A7-AB40B83F33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