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366"/>
        <c:axId val="37762191"/>
      </c:barChart>
      <c:catAx>
        <c:axId val="748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62191"/>
        <c:crosses val="autoZero"/>
        <c:auto val="1"/>
        <c:lblAlgn val="ctr"/>
        <c:lblOffset val="100"/>
        <c:noMultiLvlLbl val="0"/>
      </c:catAx>
      <c:valAx>
        <c:axId val="37762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A1E-2071-437E-880C-0C44FC9E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C9C-B51F-4508-A613-E813D87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CEE-9D87-4F80-B48E-C325600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A54-AADC-4C2B-BC86-C9CEF6E5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E20-6A51-4156-B835-4953C8EE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254-977E-4889-8079-E65AA26C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7B8-8102-4E02-9298-BEC57DBF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784-DAEA-48D2-A589-CB64BE8A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3C9-9F74-4B8A-AC64-7D308C6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C2E-C39F-43F6-8D25-E082AE0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524-1C9B-43DC-AF6F-135C008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CC2-D73B-4311-9A57-1A87680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E5FDC-00C7-4836-B83D-FC03B9B9E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