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53292"/>
        <c:axId val="24782272"/>
      </c:barChart>
      <c:catAx>
        <c:axId val="71653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82272"/>
        <c:crosses val="autoZero"/>
        <c:auto val="1"/>
        <c:lblAlgn val="ctr"/>
        <c:lblOffset val="100"/>
        <c:noMultiLvlLbl val="0"/>
      </c:catAx>
      <c:valAx>
        <c:axId val="24782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53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15D3-3F1E-4B0E-8B51-B3ACE820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ED5-BFCE-48BE-B798-06EB8D6F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9DE-8D90-4F2D-943F-63147192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BC7-5A1E-4310-BD4F-64D700DE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4A2-D1F3-464E-804E-F1C97B75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29F-5009-4369-B0BF-FB8BD4FA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DC0-4D4A-4468-873E-DCDD18CE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A70D-9CBC-487E-B9DE-B78494C8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C95-C05F-476C-875A-152A61F6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F34A-045D-4007-BEBC-12BC5491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A964-F0FA-4933-825D-C48B1E67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960-3764-4FE7-8E45-76C2C834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B4F22-DDFA-4FE2-A0E1-7E56BAE425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