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545242"/>
        <c:axId val="64146498"/>
      </c:barChart>
      <c:catAx>
        <c:axId val="395452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46498"/>
        <c:crosses val="autoZero"/>
        <c:auto val="1"/>
        <c:lblAlgn val="ctr"/>
        <c:lblOffset val="100"/>
        <c:noMultiLvlLbl val="0"/>
      </c:catAx>
      <c:valAx>
        <c:axId val="641464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452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371D-158C-4C69-90E1-B5C5F0A6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CE6E-67AC-43C8-85B5-08850CB6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FC78-D2AD-4A7A-8069-1BEF37F4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8C6E-11FD-4161-A27F-FBA3FFDE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8D4B-60DB-45B2-902F-B89D7006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D8C3-69AD-4B54-8380-334EB77F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C994-A674-4EB2-8BAE-13737088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ECC6-44A9-4A47-B47C-F4BFE01B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044C-E4F7-447D-AD33-EF634E0A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E5F5-18F3-46C8-8E33-5FC451FA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D54E-8E8F-42ED-80CB-D571C2CF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C151-2E87-4F11-B1B2-E208F495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13F2D-86E5-4768-A31C-A3CA86B7D5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