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51014"/>
        <c:axId val="46551095"/>
      </c:barChart>
      <c:catAx>
        <c:axId val="50851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51095"/>
        <c:crosses val="autoZero"/>
        <c:auto val="1"/>
        <c:lblAlgn val="ctr"/>
        <c:lblOffset val="100"/>
        <c:noMultiLvlLbl val="0"/>
      </c:catAx>
      <c:valAx>
        <c:axId val="46551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51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6FE-2A14-476C-A64D-F4FA7B63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9CB-E4D0-4A3C-B151-945961B5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BCA-F692-4F57-B367-E548109B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CF6-630F-421A-9221-BC14839B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B94-A4CD-4D8B-BD51-D5790669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DCD-CD40-47B7-91A1-A375D645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733-B2A1-404B-9241-F8D7DFD2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AC5-1076-4057-9271-6B4EED8D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5B7-C8A2-457C-9414-70072A8E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21F-23F6-46E1-87B4-45E4AE0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D1D-6E35-4502-BC05-907C85F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B62-6B59-4002-93C7-29CC3A63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D0E31-1E81-4B52-9DAA-71AD94FA9E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