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90643"/>
        <c:axId val="37832379"/>
      </c:barChart>
      <c:catAx>
        <c:axId val="92690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2379"/>
        <c:crosses val="autoZero"/>
        <c:auto val="1"/>
        <c:lblAlgn val="ctr"/>
        <c:lblOffset val="100"/>
        <c:noMultiLvlLbl val="0"/>
      </c:catAx>
      <c:valAx>
        <c:axId val="37832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0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5FD-9C89-4860-863B-4F768F0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770-4A37-42F9-87B2-B699053C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9D5-4B8E-4BFB-BB2F-1C838D3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851-1A02-497B-92BE-FBBAF50A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8AC-4D2A-4EA8-8C8B-6222D1B0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C94-CC54-46F6-AB0A-C22109D6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4F4-3DD1-4A15-BFD4-2B92EEE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BC3-4679-4495-A485-BDC358CA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723-8B4E-4717-881D-E6CDD0E7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C1F-E74C-4F10-8F0F-A29AFCA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3A0-89A1-4318-B25A-B58352F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BD1-7168-4548-805D-F60BA1C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AC50A-67C2-46B6-996D-2420A0CAFF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