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387522"/>
        <c:axId val="76404096"/>
      </c:barChart>
      <c:catAx>
        <c:axId val="50387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04096"/>
        <c:crosses val="autoZero"/>
        <c:auto val="1"/>
        <c:lblAlgn val="ctr"/>
        <c:lblOffset val="100"/>
        <c:noMultiLvlLbl val="0"/>
      </c:catAx>
      <c:valAx>
        <c:axId val="76404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387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4A72-3A67-463F-919D-578DD0E2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06D2-A14B-4CC7-98CD-47A14961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B478-321A-4F45-9BE1-8DB30569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B06-B846-4B17-923F-3DB21DE77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0BE-255C-4AA5-A106-3592F86F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35F-6199-43C8-A214-94EAC5D0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5718-D376-4B03-BDEC-6E210F1C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4A5-C5A0-463F-A3CE-91E6DBDB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501-09C5-46DE-9A81-EBE19A3E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B0B0-6B07-40E6-99AC-1FD161EB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975-51E6-4747-9716-3A399EB4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1D9-2E41-499A-843C-8395E170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AC76E1-1389-498F-8B79-6A3A2BE6A7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