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32900"/>
        <c:axId val="37379955"/>
      </c:barChart>
      <c:catAx>
        <c:axId val="37832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79955"/>
        <c:crosses val="autoZero"/>
        <c:auto val="1"/>
        <c:lblAlgn val="ctr"/>
        <c:lblOffset val="100"/>
        <c:noMultiLvlLbl val="0"/>
      </c:catAx>
      <c:valAx>
        <c:axId val="37379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32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6D9-328C-4818-A8FE-4C106D9A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1C8-D898-43A8-98A6-375C43D5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6B0-CAA9-4372-89BC-E950640F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DC5-7CAF-4FAB-BE8C-1341D2D7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171-DF49-480A-9F15-477949A1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22D-05DD-45B2-AA5B-2F27C7AF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2FA-EB4D-4BFA-A749-F07DBE38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696-DAE6-43D5-9594-AB9537E9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3CC-484B-4E09-B7BE-DA686666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5D7-E45A-4244-B35F-EDE1185C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918-52E8-4E8A-9485-91F7675B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E30-005D-45E4-AF5F-483247F7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0547D-1E06-400A-A155-A435E5F11A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