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14440"/>
        <c:axId val="60306590"/>
      </c:barChart>
      <c:catAx>
        <c:axId val="23014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6590"/>
        <c:crosses val="autoZero"/>
        <c:auto val="1"/>
        <c:lblAlgn val="ctr"/>
        <c:lblOffset val="100"/>
        <c:noMultiLvlLbl val="0"/>
      </c:catAx>
      <c:valAx>
        <c:axId val="60306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4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B1C-BC90-47FE-9400-218BA65E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737-93E2-49AA-ADA3-CDDC2C3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045-8916-4739-9E69-A56A2032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427-3ED5-4C56-AE48-8EBA3C04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B12-2720-4455-AF5A-71F3679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C86-59BB-4DBA-8296-09DCCF8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AE1-7991-4FBF-9331-D53965C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6C3-F3ED-4441-82F3-3F9A7EA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932-96A5-4FE4-8502-37A5689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383-EC45-40CC-A1D5-708AF333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F32-FF36-4EA7-97D1-17E4372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168-555C-47AA-83CC-6E64A6F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C6B1-D92E-42C0-94A3-A9CD89329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