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86923"/>
        <c:axId val="78450951"/>
      </c:barChart>
      <c:catAx>
        <c:axId val="24586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50951"/>
        <c:crosses val="autoZero"/>
        <c:auto val="1"/>
        <c:lblAlgn val="ctr"/>
        <c:lblOffset val="100"/>
        <c:noMultiLvlLbl val="0"/>
      </c:catAx>
      <c:valAx>
        <c:axId val="78450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86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4DF-B241-4F8B-8E3F-17284EF1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48E-9691-4256-8C4C-D16301CF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AEB-7D0B-4769-9669-EB887381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CF6-CB49-4CFB-9418-A1C83F3C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424-E3AE-4DC7-A6FE-B0D6D4E2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A25-9948-4BAE-BD7B-881C1EE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697-0A49-498C-8B66-4D8CD693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B52-48A4-46FD-804C-1A2C514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3D9-DA4D-446B-A736-BF733CA1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89E-DC22-4C8B-B8C0-43D2CAC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361-65C2-49A2-83C2-E24D621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9CB-DEA1-43BE-8358-AFE559D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0A3B2-576C-4B31-99B9-4C7E4A644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