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76568"/>
        <c:axId val="10576668"/>
      </c:barChart>
      <c:catAx>
        <c:axId val="97976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6668"/>
        <c:crosses val="autoZero"/>
        <c:auto val="1"/>
        <c:lblAlgn val="ctr"/>
        <c:lblOffset val="100"/>
        <c:noMultiLvlLbl val="0"/>
      </c:catAx>
      <c:valAx>
        <c:axId val="10576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76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B40-AE15-43C6-972F-EF4C5FE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916-32A4-49C5-B35E-8AC6976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7BA-F7E3-44F5-B9D2-CF02F871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27B-A246-48D3-8020-D9E2CB1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5BB-CD1F-445D-99C9-BF6DF0F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4D7-0117-4233-B952-4094B81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2DC-E40C-41FD-87B8-67C51D97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C1F-2482-46F5-AB09-475A18E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B34-C7DE-4CAB-ADF3-5032891A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1E8-AB0C-44ED-810B-87C5BE1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4CD-9D97-4E9D-AA5C-FEC24C8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A6A-04B4-41CB-8E0C-A68BBEA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B8A7D-DF2D-4803-8889-729AD91D44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