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42560"/>
        <c:axId val="4291154"/>
      </c:barChart>
      <c:catAx>
        <c:axId val="87942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1154"/>
        <c:crosses val="autoZero"/>
        <c:auto val="1"/>
        <c:lblAlgn val="ctr"/>
        <c:lblOffset val="100"/>
        <c:noMultiLvlLbl val="0"/>
      </c:catAx>
      <c:valAx>
        <c:axId val="4291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2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A16-FE29-4D5D-8337-48B8AF5F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D72-A1C4-42C4-B1B7-4DB3B56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BF3-5360-48CA-A4A8-C681B9A5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5C0-8B7B-4B23-A69F-6D77BD01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6B2-B1A6-4188-A754-5417811E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AD0-4164-4E3F-93B2-B1503B94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4E4-CD23-4790-BBE6-BEA555A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C47-E99B-4CBA-AFF3-C2AE2DE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9B5-98EC-4038-AF0F-0C5C63A6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0DD-8E3E-480C-B7B6-F414AB69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CEB-13DA-4814-9525-1ECB19E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72F-F33D-4977-A594-EA41F8D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780A-23B9-445F-95C9-064190E8F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