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99749"/>
        <c:axId val="81015176"/>
      </c:barChart>
      <c:catAx>
        <c:axId val="88799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15176"/>
        <c:crosses val="autoZero"/>
        <c:auto val="1"/>
        <c:lblAlgn val="ctr"/>
        <c:lblOffset val="100"/>
        <c:noMultiLvlLbl val="0"/>
      </c:catAx>
      <c:valAx>
        <c:axId val="81015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99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EA4-90EB-404B-9C0D-1FDD8F5A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C85-B9E0-44BB-A2CE-705DD3D8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23C-8573-4A9F-9FB9-C215FB33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11E-5341-448F-9584-9DD72730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D33-BEF0-423D-8AB7-84BAE5D9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BCB-6AEC-4DB0-B61B-7AD455F5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B37-4910-48D8-B1F5-27B265A9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E00-7109-49F8-9BC4-7A276113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AD9-46A1-4733-98FC-7E7A7BD0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B37-552F-4FAF-96B0-777870DF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580-7B84-4FAA-82C1-46590524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F8F-8071-4D70-8293-E6AC392D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6BBA6-2D5F-4F4C-A8AB-4C39993B2E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