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25922"/>
        <c:axId val="17149409"/>
      </c:barChart>
      <c:catAx>
        <c:axId val="82025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49409"/>
        <c:crosses val="autoZero"/>
        <c:auto val="1"/>
        <c:lblAlgn val="ctr"/>
        <c:lblOffset val="100"/>
        <c:noMultiLvlLbl val="0"/>
      </c:catAx>
      <c:valAx>
        <c:axId val="17149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25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2DD-AE09-493E-97D6-270A4A30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4D8-A001-487C-9BCA-6E301013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FCC-784F-4D92-86AB-49160912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059-EDEC-421B-A812-820E8B53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2E70-7248-427B-8F6B-E86BC631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FDA-EF6B-4C00-9F86-3D8DE781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B0F-F96B-4ACC-9BF3-FF206D58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8E4-256D-4020-AA65-C1E54FEF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8A7A-F8AC-4FC1-81E6-4A91F274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EFA-9749-4760-9264-21C21932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6C9-462C-4A88-B288-FF9AD720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169-48BF-4637-AB5A-4B4B0D60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F550F-1D69-49F4-82F5-A56A586384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