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09268"/>
        <c:axId val="83034932"/>
      </c:barChart>
      <c:catAx>
        <c:axId val="92409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4932"/>
        <c:crosses val="autoZero"/>
        <c:auto val="1"/>
        <c:lblAlgn val="ctr"/>
        <c:lblOffset val="100"/>
        <c:noMultiLvlLbl val="0"/>
      </c:catAx>
      <c:valAx>
        <c:axId val="83034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9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0BE-0436-4FAE-9DD2-1B704F75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725-5D81-4560-A1DE-55ED49F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321-5C93-47AA-B928-4EB2FB7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C48-F42B-4B43-934E-C065EA9D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A46-2998-479F-B392-9B002FB1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99D-AF2E-4B9C-BDD2-8663A44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715-4272-4099-BB3D-9559D41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500-E069-42B2-A570-45BF293A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4A8-724D-4C9E-AD9E-7E045702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98D-24C9-4B68-83E5-5AF81BE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3F4-4A75-449A-A4E8-A0D40AC8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AE9-974A-44BF-8B54-48E6792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996A2-3E3B-44C6-9BF1-758399EBB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