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92160"/>
        <c:axId val="44702412"/>
      </c:barChart>
      <c:catAx>
        <c:axId val="47392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02412"/>
        <c:crosses val="autoZero"/>
        <c:auto val="1"/>
        <c:lblAlgn val="ctr"/>
        <c:lblOffset val="100"/>
        <c:noMultiLvlLbl val="0"/>
      </c:catAx>
      <c:valAx>
        <c:axId val="44702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92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D42-462E-43FE-98C7-2EF1DA77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A45-6983-4DD1-B376-43ABDD7D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307-D93E-4D97-960D-C1077A6A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EB7-7410-4174-BC92-D2453EEF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AAE-092F-4DC8-A0FE-7925263E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34F-5992-462D-A35A-85BC48C8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8A0-F0FD-4F74-A9C9-56EBCA75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01F-190F-46A4-B103-205D4286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F8D-25AF-42F8-8D97-E2C719FC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3E0-F2DA-4F8C-B234-84F410D7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61D-3C98-434C-835A-38AB723B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845-CB59-408D-9E5A-0D6A93A9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B1F8D-2F3A-48A0-9950-5F86DA07F3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