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45776"/>
        <c:axId val="47261878"/>
      </c:barChart>
      <c:catAx>
        <c:axId val="88645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61878"/>
        <c:crosses val="autoZero"/>
        <c:auto val="1"/>
        <c:lblAlgn val="ctr"/>
        <c:lblOffset val="100"/>
        <c:noMultiLvlLbl val="0"/>
      </c:catAx>
      <c:valAx>
        <c:axId val="47261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45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B3C-D1E5-4C8F-A8CE-A57239B4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D0D-2D93-4C96-8788-8B218570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90C-2758-492F-85B8-B80B377A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CF1-0D32-4BE5-9057-BCF956E6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12A-D3DF-441F-8127-CB3CDB02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6BB-488B-4869-B00B-12F6311A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C25-DC13-4C16-8268-8EEAA55B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256-2E36-40AA-886A-88E42669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99B-57BB-4024-AE1C-581572B1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77F-9374-4C5E-B114-98558741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3FC-9615-4E24-B86A-FC2C0C7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988-4216-4B0B-A4A1-F74C3980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8FB75-5FC2-4D3D-A89C-5E092D878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