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13903"/>
        <c:axId val="65507146"/>
      </c:barChart>
      <c:catAx>
        <c:axId val="22113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7146"/>
        <c:crosses val="autoZero"/>
        <c:auto val="1"/>
        <c:lblAlgn val="ctr"/>
        <c:lblOffset val="100"/>
        <c:noMultiLvlLbl val="0"/>
      </c:catAx>
      <c:valAx>
        <c:axId val="6550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3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461-5EC7-4D6F-9BFB-74FE21A1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D63-D7DD-4440-97DF-68C23869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12A-78E1-45B9-B595-FA57B10F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363-34F3-4F7B-B320-329ED7C9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DE6-7686-4D13-BD00-3506C3D9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996-8992-4712-B01C-94FCFB5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97D-7937-4881-B04D-14660E16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A55-7BD1-44CC-8CE5-D1C97D50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5E9-502B-4A60-B5ED-0A82830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FE5-A9C8-4547-B70F-7184508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6A0-850A-456F-AED8-4174C74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E1F-FDEF-4987-AB9A-DE814B1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854FA-7C0A-42AC-A0D3-F5319BE639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