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7887"/>
        <c:axId val="24856173"/>
      </c:barChart>
      <c:catAx>
        <c:axId val="3837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6173"/>
        <c:crosses val="autoZero"/>
        <c:auto val="1"/>
        <c:lblAlgn val="ctr"/>
        <c:lblOffset val="100"/>
        <c:noMultiLvlLbl val="0"/>
      </c:catAx>
      <c:valAx>
        <c:axId val="24856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7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DEF-1B1E-4E83-9431-39E1BBB8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8AE-399F-4FFB-9A49-CACBC083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C00-282C-410A-9CED-EC4499AB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7E8-FC2B-454A-B290-705B2F7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856-4E61-4ED8-95A9-6CC7D39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A3A-DDC0-4B89-BDF6-50F6B3B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662-6D24-4867-A2DF-BC22F694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F03-C86B-4863-9770-E6040770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53F-5F62-42C8-B404-A79568A5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CD8-D42A-44D3-91C5-1D6F4E5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EB9-5EAA-48E8-A2CB-F6D746F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098-0CE0-4426-81CD-93AA612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6F97D-F641-44AB-B017-B2A35282E3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