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36026"/>
        <c:axId val="71059797"/>
      </c:barChart>
      <c:catAx>
        <c:axId val="87436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59797"/>
        <c:crosses val="autoZero"/>
        <c:auto val="1"/>
        <c:lblAlgn val="ctr"/>
        <c:lblOffset val="100"/>
        <c:noMultiLvlLbl val="0"/>
      </c:catAx>
      <c:valAx>
        <c:axId val="71059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36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5D9-4B17-44E5-A54B-9FDD6009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9C9-05EC-4903-97D3-F2CB97AA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116-65FA-4775-9337-D0ECC64F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0EA-255A-4E49-803D-5D0ADAB2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FE1-7BDA-46EA-96EE-236D9AC0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2FD-CB97-4391-A257-CAAE217F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D90-88DF-4BE5-B92A-780A2DCE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E45-89E6-4C46-8092-7E7B1C95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FF9-4F2E-4000-9F2E-C88C9C8B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E39-B056-4E16-A60D-FD4591F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A4A-082C-449C-964C-7BC11063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230-1440-4039-95C1-A0B08891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FCA67-A06C-497B-BEF7-DD4FB388E9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