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9763"/>
        <c:axId val="47379774"/>
      </c:barChart>
      <c:catAx>
        <c:axId val="91549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9774"/>
        <c:crosses val="autoZero"/>
        <c:auto val="1"/>
        <c:lblAlgn val="ctr"/>
        <c:lblOffset val="100"/>
        <c:noMultiLvlLbl val="0"/>
      </c:catAx>
      <c:valAx>
        <c:axId val="47379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9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0E2-659A-487B-A673-8FD42F44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68C-FF06-471C-B327-82D628B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406-BB7C-43E5-9ED0-7B8567F9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8FA-974D-4F41-B18F-73BA719E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0A7-6281-4A2D-AF83-7DC8BFB9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B3A-4321-47A1-9FC4-5A1FDCCA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29F-7217-47C8-AC50-7938D0C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8DD-AECF-442C-9B67-8506A90D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F16-55A3-415C-BAF2-37B75320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87F-AB90-4CC7-960A-C4F6A25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7B8-5FC8-46CB-8339-2F6515F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4F2-DE9A-4073-B4FA-F30552AA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3621F-0660-4239-96D5-4CCEA45561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