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04895"/>
        <c:axId val="58162290"/>
      </c:barChart>
      <c:catAx>
        <c:axId val="72804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62290"/>
        <c:crosses val="autoZero"/>
        <c:auto val="1"/>
        <c:lblAlgn val="ctr"/>
        <c:lblOffset val="100"/>
        <c:noMultiLvlLbl val="0"/>
      </c:catAx>
      <c:valAx>
        <c:axId val="58162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04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A8E-18A6-4683-BD10-F10E730D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AD6-D3E5-429F-940F-720511A2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949-CDE1-4BA5-BD7E-4882AD93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0CE-7D8B-4E77-8A10-6743FF6F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00D-2822-42FF-AF6F-D493744F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4CA-22BF-4B64-B682-8FAF2047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9CB-479D-4CB9-8671-A4B033A9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BF2-F440-4A21-AE8C-22145F90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9D2-BC2E-4FCA-ABC6-3E2B4177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302-89BC-4BED-AAC6-04BE62D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215-8B60-4BF8-9BC1-F146051B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8C2-771F-46CA-8558-64FB7E66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5520E-BC8D-410B-9503-EA9459D267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