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7369"/>
        <c:axId val="77970962"/>
      </c:barChart>
      <c:catAx>
        <c:axId val="6627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70962"/>
        <c:crosses val="autoZero"/>
        <c:auto val="1"/>
        <c:lblAlgn val="ctr"/>
        <c:lblOffset val="100"/>
        <c:noMultiLvlLbl val="0"/>
      </c:catAx>
      <c:valAx>
        <c:axId val="77970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7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1FC-86CD-4D77-8136-1B8C7295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AB7-5690-4664-83FC-9D76E0FB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871-B9EA-4C30-B0E0-2B059132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C7F-0EDA-4661-BEF5-EA1B2E70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E0E-F930-41EB-AE6E-62E277DB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C97-A697-40E0-8009-51459944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C85-2298-4181-976B-AD277C9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DD3-A5F8-4A71-8D95-C2E0C624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58C-0DDD-4C9B-8EEC-98D9FB07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48E-766F-4A25-A8B8-74B2F50E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C01-C652-46D8-92E0-EBD28137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8EF-D421-4192-8FD1-D815E7A5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BDB6C-F773-4829-8E0E-6232E65A54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