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289747"/>
        <c:axId val="94392716"/>
      </c:barChart>
      <c:catAx>
        <c:axId val="672897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392716"/>
        <c:crosses val="autoZero"/>
        <c:auto val="1"/>
        <c:lblAlgn val="ctr"/>
        <c:lblOffset val="100"/>
        <c:noMultiLvlLbl val="0"/>
      </c:catAx>
      <c:valAx>
        <c:axId val="943927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2897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5D01-B34B-42BB-B4D0-D943EB070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53AF-35CB-411A-80DF-EE7D5742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CC7E-1D34-4C2D-AE05-549D5927A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250F-E2B7-40BA-B72D-171A603F4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3FD6-0B6B-4065-9ADA-666E5947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907B-4024-4C19-B38F-2EDEFF1C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4281-DF59-42F7-9C22-7C861A72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A77B-8022-42E7-9ADE-B622B582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CE93-DD0B-41B5-BAEB-19EB6849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E596-87CC-499A-A5C2-2C4DBAA3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0AA6-E643-4697-8F06-F996E9C6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915C-66EC-4B88-99A4-4DBE085A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7357A-92FC-4630-9EFB-EBC2FD4462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