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0771"/>
        <c:axId val="33891093"/>
      </c:barChart>
      <c:catAx>
        <c:axId val="9240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91093"/>
        <c:crosses val="autoZero"/>
        <c:auto val="1"/>
        <c:lblAlgn val="ctr"/>
        <c:lblOffset val="100"/>
        <c:noMultiLvlLbl val="0"/>
      </c:catAx>
      <c:valAx>
        <c:axId val="33891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417-E6B7-41A2-899F-28855356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B6D-864A-4A34-A06E-36336B6F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811-FFB6-4C0B-80E4-EAD8ABB9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C79-31ED-440E-90C4-ECD7F16E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AC6-ED89-4516-8E57-7FD38029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239-1FD7-4D4F-908F-3179EA56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79D-F617-48DD-B6E3-20646ABE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43E-6C64-4DE9-A297-F2835792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BCC-474A-4945-B954-35CDBE48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9C5-35D1-4233-84A7-62067B01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8DD-0612-437A-9C8D-FE7A9483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1C8-9CDE-43F5-8F14-B7D88765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8E2C4-AC16-42ED-BBB3-91C9353E18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