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17093"/>
        <c:axId val="51448354"/>
      </c:barChart>
      <c:catAx>
        <c:axId val="43917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48354"/>
        <c:crosses val="autoZero"/>
        <c:auto val="1"/>
        <c:lblAlgn val="ctr"/>
        <c:lblOffset val="100"/>
        <c:noMultiLvlLbl val="0"/>
      </c:catAx>
      <c:valAx>
        <c:axId val="514483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17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AC0D-0BE9-4AD0-AB59-F3ECACF0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3F02-CBAA-4227-8F2E-D9693F09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D27-DEA2-4719-AFF8-67AA67C8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41A5-8853-408D-BFF8-6A0C3148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2FF-08DB-46E1-B5D5-CD32D6A4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31DD-C130-4F3B-8051-E9E559E9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C0C-AFBD-4400-BE5E-2800E659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69E-8ED3-49E8-A979-98804DA3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01B-5C4E-413F-81C8-D58FC804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3FBB-66D4-4FA2-96BD-82C0BC0B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2FF-1AC6-4AF1-BE40-1F99D95D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A00-1A39-4B3A-BBE0-338A4452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2CD5A-5B41-4D70-BCEF-4A3D15127A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