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0125"/>
        <c:axId val="94670217"/>
      </c:barChart>
      <c:catAx>
        <c:axId val="95660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70217"/>
        <c:crosses val="autoZero"/>
        <c:auto val="1"/>
        <c:lblAlgn val="ctr"/>
        <c:lblOffset val="100"/>
        <c:noMultiLvlLbl val="0"/>
      </c:catAx>
      <c:valAx>
        <c:axId val="94670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0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9AE-7C9B-43DB-95A6-A73211A9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5F9-9A6E-4B99-B773-6615A7A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34B-0821-4ED6-B833-927B8136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DE3-BF95-4ED6-8EF7-45E7601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D89-C5B9-433E-8F0C-3BD9979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49B-B8A3-49D2-8619-C14822E4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C47-5F96-4B7C-8188-6187892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B56-D991-4545-A86B-0B28967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EC7-E5B5-4EFF-B153-AA403BA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041-4DA7-47D8-A05A-500F336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9FE-B49D-49AE-A1E3-0DF2311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974-950C-44D9-9B56-889BC20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62DF3-664A-460C-B841-49572967D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