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94510"/>
        <c:axId val="96953399"/>
      </c:barChart>
      <c:catAx>
        <c:axId val="66094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3399"/>
        <c:crosses val="autoZero"/>
        <c:auto val="1"/>
        <c:lblAlgn val="ctr"/>
        <c:lblOffset val="100"/>
        <c:noMultiLvlLbl val="0"/>
      </c:catAx>
      <c:valAx>
        <c:axId val="96953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94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C46-71C0-4C15-ABD1-E0A69BFD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DD3-63C6-4500-906B-9AE4D865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61B-B295-4B54-AC15-6C86DDCB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3C1-31C3-4446-ACE9-9DF4C14F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2F0-56F8-480B-88F3-C16AB38A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A54-A90C-40C7-AF82-3A1EA8B8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96F-0B27-463B-B04C-2E13FBFC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08F-DA3B-4DC1-BA61-E3F7D62F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432-D544-481A-8DC7-C2732754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045-74DD-4C57-B953-2F38CA3D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A92-8FB4-406E-91C4-D504484F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D1C-C187-49AF-A770-BB79137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5F6C9-4978-48A8-86F5-EA985E153C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