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58546"/>
        <c:axId val="93058284"/>
      </c:barChart>
      <c:catAx>
        <c:axId val="17258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58284"/>
        <c:crosses val="autoZero"/>
        <c:auto val="1"/>
        <c:lblAlgn val="ctr"/>
        <c:lblOffset val="100"/>
        <c:noMultiLvlLbl val="0"/>
      </c:catAx>
      <c:valAx>
        <c:axId val="93058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58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562-7CE6-429F-9BED-FE72FC53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291-B994-4B91-9BD3-874BFC51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08D-BD66-43D1-8383-5B6D8F1A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9BF-2990-4E93-8388-D5DB3771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6E4-5511-426A-BC62-F2573BBC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181F-671A-442B-9720-4708FE15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29A-E9AE-48E3-A85E-F8C664EE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261-F404-41A2-B94D-67783A71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ECF-AB5D-4E27-8033-10BC69C7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F66-4624-4DAD-8241-33E78492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6237-DEDB-4D7B-8BAE-8FDF1F17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72D-CA4B-41A1-B3C2-899D23D7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3CE62-6A22-4955-922E-9BD37654DB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