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90665"/>
        <c:axId val="18360539"/>
      </c:barChart>
      <c:catAx>
        <c:axId val="89990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60539"/>
        <c:crosses val="autoZero"/>
        <c:auto val="1"/>
        <c:lblAlgn val="ctr"/>
        <c:lblOffset val="100"/>
        <c:noMultiLvlLbl val="0"/>
      </c:catAx>
      <c:valAx>
        <c:axId val="18360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90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A97-0B42-4A6D-A09B-561291EE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31D-F1F8-4129-8C26-12669D9A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31B-B4A1-450B-8ED4-378F8B4F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77B-DB53-4B56-9C88-F984149E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5C8-C739-4435-BC3F-3CEDED96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D86-2072-4351-BB23-A45F608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931-01EC-4AC9-AFFE-90F0AB2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0C6-BD94-4E01-838D-5BE688CA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4CE-3929-4AC5-B739-A77C36D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BCD-CA57-433A-B2A5-E5BEB10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0BE-52D7-4458-9BD1-75EBD120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8AF-1FAE-4383-8A60-A5334DD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38C76-8830-4484-828E-296A0A925C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