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66393"/>
        <c:axId val="36568589"/>
      </c:barChart>
      <c:catAx>
        <c:axId val="79066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68589"/>
        <c:crosses val="autoZero"/>
        <c:auto val="1"/>
        <c:lblAlgn val="ctr"/>
        <c:lblOffset val="100"/>
        <c:noMultiLvlLbl val="0"/>
      </c:catAx>
      <c:valAx>
        <c:axId val="36568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66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2C8-8FBD-4EBC-AA33-F63C1058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A51-7214-400B-B50A-EF4ABEF0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7C3-8AA4-47ED-A7FA-1A1AA6DF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E8F-5FA7-4607-A283-6EF40327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493-080D-439C-9199-27B55724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699-7361-4940-B788-5BA3A8A1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3FB-9914-4AB9-A575-50116B49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BC2-D05F-49B1-ADEB-92E79C8D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AAB-2D65-4C7D-BA0E-148EE353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0A4-FD39-47DF-AED9-5E20557A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9B4-7BF3-47A5-A809-05F523A7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9F2-EF34-407F-A2A4-99041A7B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EAF39-3871-4B5A-A7B1-669CE169E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