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94740"/>
        <c:axId val="25242642"/>
      </c:barChart>
      <c:catAx>
        <c:axId val="20194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2642"/>
        <c:crosses val="autoZero"/>
        <c:auto val="1"/>
        <c:lblAlgn val="ctr"/>
        <c:lblOffset val="100"/>
        <c:noMultiLvlLbl val="0"/>
      </c:catAx>
      <c:valAx>
        <c:axId val="25242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4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9EB-0A73-4B97-B1EA-C7479C90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CBA-1420-4100-93AE-206F7AFF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CB9-F88A-42ED-A167-E2149486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B46-1D2F-4D90-8E41-6ADC452E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5B1-1CD9-43F1-9DCC-740F2292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730-60FE-47E5-ADCA-0198FD2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254-B05F-4672-AB5C-1E24A1C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BAD-EEF2-47CC-940F-057759A5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04C-AC76-44B9-B165-B6C92BAA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E5E-2B00-4201-A7C4-3119FD0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98F-C4DA-4F9A-8960-E6C5C16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AEF-2082-43C6-AF70-CFCB50A1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BBC32-B553-4382-937F-D65FA7313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