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72238"/>
        <c:axId val="28725035"/>
      </c:barChart>
      <c:catAx>
        <c:axId val="66872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25035"/>
        <c:crosses val="autoZero"/>
        <c:auto val="1"/>
        <c:lblAlgn val="ctr"/>
        <c:lblOffset val="100"/>
        <c:noMultiLvlLbl val="0"/>
      </c:catAx>
      <c:valAx>
        <c:axId val="287250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72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F60-3B8C-4362-A8B6-2C14E8C9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1DDD-F87B-4FA5-A16A-E4C96F2C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DDF-D77B-4441-96BB-18615614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97B-80B9-41D6-A5D5-8148C552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14B2-3D5E-4B42-85CF-B3EA20E9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29D-837E-4FEF-8688-D3898514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49D6-84C9-4CDF-A51C-21A29F24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4AE-00B0-444A-B510-33CE865C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0DC-5235-4F9F-937A-DAFB4B79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62DA-DA52-4DC0-AC44-46391093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3AB-03D7-45E5-BCE1-3F8787AB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62FA-B7E1-4179-98FC-ABCB2589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845F6-1202-4A76-A9F7-079D711B75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