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91946"/>
        <c:axId val="81100336"/>
      </c:barChart>
      <c:catAx>
        <c:axId val="99291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00336"/>
        <c:crosses val="autoZero"/>
        <c:auto val="1"/>
        <c:lblAlgn val="ctr"/>
        <c:lblOffset val="100"/>
        <c:noMultiLvlLbl val="0"/>
      </c:catAx>
      <c:valAx>
        <c:axId val="81100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91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24F-DC5A-4616-B60B-1AD8079B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D86-C245-4152-9544-3D391B52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CAF-26CA-45D3-8643-37A90248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DE9-C042-4C7F-8251-CA9FDAEA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1DF-78C0-41E4-9F9C-D2939F8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368-1B4B-47B6-AAB5-3893C75A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780-A8FF-4F78-AC28-C3B4EE8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38A-C260-4538-AF04-12995B56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313-8DD2-4032-9310-53A96407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892-6460-4CC4-BC73-42B93C6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0CF-E149-4958-8D12-C033D1ED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AD5-6885-4B23-9C19-5EB24478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000E7-28CC-4B82-BA27-030209648F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