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076570"/>
        <c:axId val="68466500"/>
      </c:barChart>
      <c:catAx>
        <c:axId val="660765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466500"/>
        <c:crosses val="autoZero"/>
        <c:auto val="1"/>
        <c:lblAlgn val="ctr"/>
        <c:lblOffset val="100"/>
        <c:noMultiLvlLbl val="0"/>
      </c:catAx>
      <c:valAx>
        <c:axId val="684665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0765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1FA8-CD85-48C5-BFF9-846DD4229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F951-C37E-4BC4-815F-ED26A875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234C-5FD6-4C69-AC7E-AC833DD68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C3CA-57B4-459F-AC4A-42B232D5D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DD4C-5A47-456A-B4C8-3E21C027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1441-849A-4030-9A7E-F1C5A6F3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02CD-C68B-4FA3-91B3-6940F515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1D37-4B2D-4170-A14F-81BE09B3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A384-9C0B-4931-B33A-582983E0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9397-6A83-423D-84D7-B1382E3A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42D1-466A-4988-8425-3469AD19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6974-C01C-418D-A66D-6F3F9762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0DE3D-3940-4618-8DE3-17489E9D69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