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99013"/>
        <c:axId val="37767823"/>
      </c:barChart>
      <c:catAx>
        <c:axId val="88899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67823"/>
        <c:crosses val="autoZero"/>
        <c:auto val="1"/>
        <c:lblAlgn val="ctr"/>
        <c:lblOffset val="100"/>
        <c:noMultiLvlLbl val="0"/>
      </c:catAx>
      <c:valAx>
        <c:axId val="37767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99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183-423F-4966-9CCD-B090F08C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732-9EE8-4C22-A82D-071A7AAE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EE4-5B06-43B9-85F1-11698D44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846-3BEB-475B-BC27-0D3DBFE6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F5C-31CE-41A5-84B3-1D367D3A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F40-DB93-4BEF-A168-6BD2E15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72F-69EE-40A5-AFA0-17F86938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810-229E-420A-9BAD-4B4A3603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CFE-1613-4FFB-B238-8F35659B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E21-0D3D-4644-AEBD-C99111A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E37-44E5-4061-A134-9016E4F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211-864D-4942-88F1-6FDF4FC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E9AA4-9C28-411C-89EF-97E1603E97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