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09013"/>
        <c:axId val="66197089"/>
      </c:barChart>
      <c:catAx>
        <c:axId val="8440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97089"/>
        <c:crosses val="autoZero"/>
        <c:auto val="1"/>
        <c:lblAlgn val="ctr"/>
        <c:lblOffset val="100"/>
        <c:noMultiLvlLbl val="0"/>
      </c:catAx>
      <c:valAx>
        <c:axId val="66197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048-D040-4CC7-AE97-0F5804BB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7A0-1E4E-4F19-9A94-55E0AFC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875-69FF-43E6-A209-FF69B567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BCC-AC79-4978-AC0C-E593FF1A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7EA-B72D-4AEA-9805-47B8DC4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D5A-C19C-45FB-B322-13E351B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9B5-987A-4218-9524-E630566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63C-4FAA-4E17-B530-F233D564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231-9AE5-422B-AC44-6C79DF55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39C-9EDA-484D-8D3E-9A13671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A8A-70DD-449F-B629-DE3C3EB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D33-3F67-469B-8B86-ECCD50B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3B3E9-FFFE-40FF-AC42-46C43B8A0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