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70363"/>
        <c:axId val="36199683"/>
      </c:barChart>
      <c:catAx>
        <c:axId val="13970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9683"/>
        <c:crosses val="autoZero"/>
        <c:auto val="1"/>
        <c:lblAlgn val="ctr"/>
        <c:lblOffset val="100"/>
        <c:noMultiLvlLbl val="0"/>
      </c:catAx>
      <c:valAx>
        <c:axId val="36199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0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C53-70EC-4FAE-834A-665E838E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2FE-5794-4935-A5AB-D1A49D2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50B-12FF-486B-B5FB-0FB72397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1F9-9311-4AD8-B926-6B986D18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CC0-0E6C-4FA7-93C5-5F16052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C57-FD26-48B8-8648-1AC4B76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0A8-9710-43D8-BA9B-7B3D1E99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26C-3668-4564-A82F-50CCFCB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696-155E-45C3-A328-91D58A7D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150-3C78-4F5E-9106-BCE8816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A66-F15D-4B30-89F0-9066016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D3F-42F2-4F82-9418-3E6499E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682D8-53B0-40AD-8248-67DB2080A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