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21938"/>
        <c:axId val="64714583"/>
      </c:barChart>
      <c:catAx>
        <c:axId val="90821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4583"/>
        <c:crosses val="autoZero"/>
        <c:auto val="1"/>
        <c:lblAlgn val="ctr"/>
        <c:lblOffset val="100"/>
        <c:noMultiLvlLbl val="0"/>
      </c:catAx>
      <c:valAx>
        <c:axId val="64714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21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8E7-C4CB-4026-8657-00A3A9D5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849-E69E-4410-B058-1143E92F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A98-13E5-4E96-B8A6-C88C4FAC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E0F-F8EF-417B-B2B6-FFC3D85E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400-449C-496C-A61C-DCC89E6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C61-8DBF-4A54-8636-6FE4BDE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B2E-2523-4971-8324-875D1D6D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0D9-3610-4CCD-9778-42FF7C4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740-0C7D-49C5-AEB0-887BB6B0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79E-AAA5-418E-BA37-CDBA7C69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C16-B6D6-470F-B492-CA4B2AE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D1D-08B9-4A8F-92FC-DAA5214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0978F-F716-4E34-AAEC-2F2D0CF144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