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8678"/>
        <c:axId val="46707980"/>
      </c:barChart>
      <c:catAx>
        <c:axId val="4898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07980"/>
        <c:crosses val="autoZero"/>
        <c:auto val="1"/>
        <c:lblAlgn val="ctr"/>
        <c:lblOffset val="100"/>
        <c:noMultiLvlLbl val="0"/>
      </c:catAx>
      <c:valAx>
        <c:axId val="46707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8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905-06E4-4139-827B-4D0938E2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35C-3BDA-4EF9-B215-B6EF0D7C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818-9D2A-43B8-A725-123D68D7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453-6425-4E3C-9545-F746971D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CEB-40C3-413D-BA3B-BD1A1DBE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2DB-E45E-4E5C-8342-117AF6D1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51C-E393-424D-AEC9-49194676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869-E153-432E-8C47-450A5925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7FB-6B70-4F39-B82A-2A2EA367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430-BE25-41FC-ABFD-1B2B736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132-4AFA-4FFC-BCCC-3ABC324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85C-4DE8-4F5C-9B18-83C704D7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FF87C-3192-4689-8E78-2E7D8F80AB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