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05625"/>
        <c:axId val="38452886"/>
      </c:barChart>
      <c:catAx>
        <c:axId val="29405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52886"/>
        <c:crosses val="autoZero"/>
        <c:auto val="1"/>
        <c:lblAlgn val="ctr"/>
        <c:lblOffset val="100"/>
        <c:noMultiLvlLbl val="0"/>
      </c:catAx>
      <c:valAx>
        <c:axId val="38452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05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3AE-4B09-4AFE-A307-A92DE761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6FC-BC2B-4E54-A029-9F74422F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75E-6F8B-4902-91F1-9A6AD274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291-34F7-4C77-91EB-1858335C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DE5-0DEF-4112-9CBD-71BAFF0C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A7C-F435-42D4-A4BD-0DBBFC72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F3A-758E-47E9-A9F6-B543B5F0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EC1-F759-4201-BB15-A120EED6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1D6-A0C5-4D42-AC23-4E28DDEA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2E6-A9AE-463A-A8E0-A88676B5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ACF-71FD-4DA5-9E49-1C876C2E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615-84E1-48AA-A6DC-4BDEA2F4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F770C-626B-405D-9852-5922836895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