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88213"/>
        <c:axId val="37141121"/>
      </c:barChart>
      <c:catAx>
        <c:axId val="56688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1121"/>
        <c:crosses val="autoZero"/>
        <c:auto val="1"/>
        <c:lblAlgn val="ctr"/>
        <c:lblOffset val="100"/>
        <c:noMultiLvlLbl val="0"/>
      </c:catAx>
      <c:valAx>
        <c:axId val="3714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8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68D-CBE7-4A29-B905-8D491F07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3D3-CDBE-476C-AC9B-AAD84E6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FB8-A67F-4846-A33D-61471694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341-E4D1-475C-BAC0-4E872099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E7C-A525-4387-97E4-43239DF3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3B4-B86E-40C6-A82F-5D53241B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7D4-E265-4DAE-A88A-0A814A7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1D0-36F4-4A63-8126-703CB65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D88-3A5B-4A25-8F74-B75157F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015-B346-44AF-8445-7E8348C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30E-78E6-4C84-B367-FCBFAE6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1A7-2F64-4777-9D9D-F72F9D4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3412-53BE-4FE3-8D80-85906B81C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