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14654"/>
        <c:axId val="49500088"/>
      </c:barChart>
      <c:catAx>
        <c:axId val="51714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00088"/>
        <c:crosses val="autoZero"/>
        <c:auto val="1"/>
        <c:lblAlgn val="ctr"/>
        <c:lblOffset val="100"/>
        <c:noMultiLvlLbl val="0"/>
      </c:catAx>
      <c:valAx>
        <c:axId val="49500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14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DFF-CBF7-4DDC-9209-116819A6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9F0-9228-4C47-80CA-852C4E7B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C30-3C29-44C5-8161-B8CD3AF6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52C-FDD0-421C-9DF1-3904414F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50B-FB96-4D3B-94EC-6E022C5D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A13-DDF4-4C3A-B155-77C30C39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364-AF15-4269-92BC-DE71525C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5AF-1694-4DE8-A787-1804EC03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C9B-258F-4FD7-9107-91429537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5E8-EB46-4257-BB79-CC0D05A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E23-86DE-4979-BAFD-A8E7629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68D-A50F-4240-9549-6C3C2DE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3D2BC-AEA0-4533-A737-E9353A5D31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