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690987"/>
        <c:axId val="65042983"/>
      </c:barChart>
      <c:catAx>
        <c:axId val="976909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042983"/>
        <c:crosses val="autoZero"/>
        <c:auto val="1"/>
        <c:lblAlgn val="ctr"/>
        <c:lblOffset val="100"/>
        <c:noMultiLvlLbl val="0"/>
      </c:catAx>
      <c:valAx>
        <c:axId val="650429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909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5F63-3897-4906-A428-FC5384D38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7A95-C187-4835-8566-CE53EDF6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34E4-B11D-4C0C-A7B3-2C0A6C498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CF51-02D9-492A-80A3-F53CBF138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DCFB-880A-4F43-A8F7-7EF44A5C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2C14-8CCB-4B1B-8FD8-D2E12C20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812D-0B1A-456F-9187-1D621337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C590-5FD8-4ADC-998B-1F32B12C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E36A-5D86-4A18-8D77-975E523F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0C66-B430-4E01-9160-F9936732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20B4-07F2-4D15-B11A-57C37CBC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9635-A205-484F-93E6-4A8CF9A6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D022D9-EC9F-43B2-A440-7CC808C318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